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36500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36500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040" y="36500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5160" y="1142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9440" y="11426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36500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5160" y="36500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9440" y="365004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49120" y="353520"/>
            <a:ext cx="7607160" cy="25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36500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040" y="36500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264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65004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76320" y="6431040"/>
            <a:ext cx="7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4B2001BE-DF79-43B3-ACD1-3555A0E7E613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"/>
          <p:cNvPicPr/>
          <p:nvPr/>
        </p:nvPicPr>
        <p:blipFill>
          <a:blip r:embed="rId1"/>
          <a:stretch/>
        </p:blipFill>
        <p:spPr>
          <a:xfrm>
            <a:off x="533520" y="982800"/>
            <a:ext cx="8153280" cy="29664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4"/>
          <p:cNvSpPr/>
          <p:nvPr/>
        </p:nvSpPr>
        <p:spPr>
          <a:xfrm>
            <a:off x="533520" y="2008080"/>
            <a:ext cx="8153280" cy="838440"/>
          </a:xfrm>
          <a:prstGeom prst="rect">
            <a:avLst/>
          </a:prstGeom>
          <a:solidFill>
            <a:srgbClr val="d64b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会计信息系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533520" y="3505320"/>
            <a:ext cx="8153280" cy="1295280"/>
          </a:xfrm>
          <a:prstGeom prst="rect">
            <a:avLst/>
          </a:prstGeom>
          <a:solidFill>
            <a:srgbClr val="470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6800" y="353520"/>
            <a:ext cx="789948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四节年度账管理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74760" y="142884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立年度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入和输出年度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转上年数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清空年度 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3544920" y="3714840"/>
            <a:ext cx="3312720" cy="1309320"/>
            <a:chOff x="3544920" y="3714840"/>
            <a:chExt cx="3312720" cy="1309320"/>
          </a:xfrm>
        </p:grpSpPr>
        <p:sp>
          <p:nvSpPr>
            <p:cNvPr id="97" name="AutoShape 5"/>
            <p:cNvSpPr/>
            <p:nvPr/>
          </p:nvSpPr>
          <p:spPr>
            <a:xfrm>
              <a:off x="3682440" y="3818160"/>
              <a:ext cx="3175200" cy="565200"/>
            </a:xfrm>
            <a:prstGeom prst="parallelogram">
              <a:avLst>
                <a:gd name="adj" fmla="val 43668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Picture 6" descr="vvx"/>
            <p:cNvPicPr/>
            <p:nvPr/>
          </p:nvPicPr>
          <p:blipFill>
            <a:blip r:embed="rId1"/>
            <a:stretch/>
          </p:blipFill>
          <p:spPr>
            <a:xfrm>
              <a:off x="3544920" y="3714840"/>
              <a:ext cx="1382400" cy="13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TextBox 6"/>
          <p:cNvSpPr/>
          <p:nvPr/>
        </p:nvSpPr>
        <p:spPr>
          <a:xfrm>
            <a:off x="3429000" y="5245200"/>
            <a:ext cx="4071960" cy="45972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账套与年度账有什么区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153280" cy="297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533520" y="1170000"/>
            <a:ext cx="8153280" cy="838080"/>
          </a:xfrm>
          <a:prstGeom prst="rect">
            <a:avLst/>
          </a:prstGeom>
          <a:solidFill>
            <a:srgbClr val="d64b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二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533520" y="2209680"/>
            <a:ext cx="8153280" cy="1295640"/>
          </a:xfrm>
          <a:prstGeom prst="rect">
            <a:avLst/>
          </a:prstGeom>
          <a:solidFill>
            <a:srgbClr val="470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系统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738360"/>
            <a:ext cx="8217000" cy="56016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0" rIns="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本章学习目标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611280" y="1600200"/>
            <a:ext cx="79992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611280" y="1916280"/>
            <a:ext cx="815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20760" y="1861560"/>
            <a:ext cx="86803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611280" y="1854360"/>
            <a:ext cx="799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本章学习， 要求掌握系统管理中设置操作员及操作员权限，建立账套的方法；熟悉账套的备份与恢复方法；了解年度账管理的内容和工作原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2428920" y="2819520"/>
            <a:ext cx="1871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操作员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操作员权限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01520" y="1852560"/>
            <a:ext cx="1827360" cy="9334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9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系统管理概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428920" y="1852560"/>
            <a:ext cx="1743120" cy="9334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9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操作员及权限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643280" y="1852560"/>
            <a:ext cx="1857600" cy="9334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9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账套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6946920" y="1795320"/>
            <a:ext cx="1816200" cy="9622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9a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度账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101520" y="2819520"/>
            <a:ext cx="1827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系统管理的主要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系统管理应用流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292720" y="2819520"/>
            <a:ext cx="18273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10"/>
          <p:cNvCxnSpPr/>
          <p:nvPr/>
        </p:nvCxnSpPr>
        <p:spPr>
          <a:xfrm flipH="1" rot="16200000">
            <a:off x="6299640" y="-128880"/>
            <a:ext cx="848520" cy="2934360"/>
          </a:xfrm>
          <a:prstGeom prst="bentConnector3">
            <a:avLst>
              <a:gd name="adj1" fmla="val 51018"/>
            </a:avLst>
          </a:prstGeom>
          <a:ln cap="sq" w="38160">
            <a:solidFill>
              <a:srgbClr val="009a96"/>
            </a:solidFill>
            <a:miter/>
            <a:tailEnd len="med" type="triangle" w="med"/>
          </a:ln>
        </p:spPr>
      </p:cxnSp>
      <p:cxnSp>
        <p:nvCxnSpPr>
          <p:cNvPr id="60" name="AutoShape 11"/>
          <p:cNvCxnSpPr/>
          <p:nvPr/>
        </p:nvCxnSpPr>
        <p:spPr>
          <a:xfrm rot="5400000">
            <a:off x="1799640" y="-166680"/>
            <a:ext cx="848520" cy="3010320"/>
          </a:xfrm>
          <a:prstGeom prst="bentConnector3">
            <a:avLst>
              <a:gd name="adj1" fmla="val 51018"/>
            </a:avLst>
          </a:prstGeom>
          <a:ln cap="sq" w="38160">
            <a:solidFill>
              <a:srgbClr val="009a96"/>
            </a:solidFill>
            <a:miter/>
            <a:tailEnd len="med" type="triangle" w="med"/>
          </a:ln>
        </p:spPr>
      </p:cxnSp>
      <p:sp>
        <p:nvSpPr>
          <p:cNvPr id="61" name="Rectangle 12"/>
          <p:cNvSpPr/>
          <p:nvPr/>
        </p:nvSpPr>
        <p:spPr>
          <a:xfrm>
            <a:off x="380880" y="457200"/>
            <a:ext cx="8382240" cy="56052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4280" bIns="44280" anchor="t">
            <a:noAutofit/>
          </a:bodyPr>
          <a:p>
            <a:pPr marL="109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</a:rPr>
              <a:t>系统管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7162920" y="2819520"/>
            <a:ext cx="1828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629240" y="2819520"/>
            <a:ext cx="1871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建立账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账套修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账套的引入和输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799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6891480" y="2819520"/>
            <a:ext cx="1871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109800" bIns="44280" anchor="t">
            <a:noAutofit/>
          </a:bodyPr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建立年度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引入和输出年度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结转上年数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清空年度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901"/>
              </a:spcBef>
              <a:buSzPct val="100000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一节系统管理概述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75760" cy="4357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、系统管理的主要功能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账套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度账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员及权限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系统安全管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4"/>
          <p:cNvGrpSpPr/>
          <p:nvPr/>
        </p:nvGrpSpPr>
        <p:grpSpPr>
          <a:xfrm>
            <a:off x="4500720" y="4025880"/>
            <a:ext cx="3165120" cy="1601280"/>
            <a:chOff x="4500720" y="4025880"/>
            <a:chExt cx="3165120" cy="1601280"/>
          </a:xfrm>
        </p:grpSpPr>
        <p:sp>
          <p:nvSpPr>
            <p:cNvPr id="68" name="AutoShape 5"/>
            <p:cNvSpPr/>
            <p:nvPr/>
          </p:nvSpPr>
          <p:spPr>
            <a:xfrm>
              <a:off x="4616280" y="4152240"/>
              <a:ext cx="3049560" cy="910080"/>
            </a:xfrm>
            <a:prstGeom prst="parallelogram">
              <a:avLst>
                <a:gd name="adj" fmla="val 30034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Picture 6" descr="vvx"/>
            <p:cNvPicPr/>
            <p:nvPr/>
          </p:nvPicPr>
          <p:blipFill>
            <a:blip r:embed="rId1"/>
            <a:stretch/>
          </p:blipFill>
          <p:spPr>
            <a:xfrm>
              <a:off x="4500720" y="4025880"/>
              <a:ext cx="1162080" cy="1601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9120" y="353520"/>
            <a:ext cx="760716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一节系统管理概述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75760" cy="4357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二、系统管理应用流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企业在应用会计信息之初，首先要在系统中为企业创建一个账套核算体系，这一过程就是建账。建账过程主要分为设置用户、创建账套、操作员赋权三个步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4"/>
          <p:cNvGrpSpPr/>
          <p:nvPr/>
        </p:nvGrpSpPr>
        <p:grpSpPr>
          <a:xfrm>
            <a:off x="4500720" y="4025880"/>
            <a:ext cx="3165120" cy="1601280"/>
            <a:chOff x="4500720" y="4025880"/>
            <a:chExt cx="3165120" cy="1601280"/>
          </a:xfrm>
        </p:grpSpPr>
        <p:sp>
          <p:nvSpPr>
            <p:cNvPr id="73" name="AutoShape 5"/>
            <p:cNvSpPr/>
            <p:nvPr/>
          </p:nvSpPr>
          <p:spPr>
            <a:xfrm>
              <a:off x="4616280" y="4152240"/>
              <a:ext cx="3049560" cy="910080"/>
            </a:xfrm>
            <a:prstGeom prst="parallelogram">
              <a:avLst>
                <a:gd name="adj" fmla="val 30034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Picture 6" descr="vvx"/>
            <p:cNvPicPr/>
            <p:nvPr/>
          </p:nvPicPr>
          <p:blipFill>
            <a:blip r:embed="rId1"/>
            <a:stretch/>
          </p:blipFill>
          <p:spPr>
            <a:xfrm>
              <a:off x="4500720" y="4025880"/>
              <a:ext cx="1162080" cy="1601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56800" y="353520"/>
            <a:ext cx="789948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二节操作员及权限管理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74760" y="142884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操作员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加操作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修改或删除操作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操作员权限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642960" y="3613320"/>
            <a:ext cx="44290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定或取消账套主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增加或删除操作员权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4"/>
          <p:cNvGrpSpPr/>
          <p:nvPr/>
        </p:nvGrpSpPr>
        <p:grpSpPr>
          <a:xfrm>
            <a:off x="5572080" y="3998880"/>
            <a:ext cx="2785680" cy="1309320"/>
            <a:chOff x="5572080" y="3998880"/>
            <a:chExt cx="2785680" cy="1309320"/>
          </a:xfrm>
        </p:grpSpPr>
        <p:sp>
          <p:nvSpPr>
            <p:cNvPr id="79" name="AutoShape 5"/>
            <p:cNvSpPr/>
            <p:nvPr/>
          </p:nvSpPr>
          <p:spPr>
            <a:xfrm>
              <a:off x="5687640" y="4102200"/>
              <a:ext cx="2670120" cy="565200"/>
            </a:xfrm>
            <a:prstGeom prst="parallelogram">
              <a:avLst>
                <a:gd name="adj" fmla="val 36722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" name="Picture 6" descr="vvx"/>
            <p:cNvPicPr/>
            <p:nvPr/>
          </p:nvPicPr>
          <p:blipFill>
            <a:blip r:embed="rId1"/>
            <a:stretch/>
          </p:blipFill>
          <p:spPr>
            <a:xfrm>
              <a:off x="5572080" y="3998880"/>
              <a:ext cx="1162440" cy="13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TextBox 6"/>
          <p:cNvSpPr/>
          <p:nvPr/>
        </p:nvSpPr>
        <p:spPr>
          <a:xfrm>
            <a:off x="3544920" y="5645160"/>
            <a:ext cx="4813200" cy="39888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什么情况下会用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注销操作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56800" y="353520"/>
            <a:ext cx="789948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三节账套管理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74760" y="142884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建立账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建立账套向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类编码方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数据精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修改账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4"/>
          <p:cNvGrpSpPr/>
          <p:nvPr/>
        </p:nvGrpSpPr>
        <p:grpSpPr>
          <a:xfrm>
            <a:off x="3544920" y="3714840"/>
            <a:ext cx="3312720" cy="1309320"/>
            <a:chOff x="3544920" y="3714840"/>
            <a:chExt cx="3312720" cy="1309320"/>
          </a:xfrm>
        </p:grpSpPr>
        <p:sp>
          <p:nvSpPr>
            <p:cNvPr id="85" name="AutoShape 5"/>
            <p:cNvSpPr/>
            <p:nvPr/>
          </p:nvSpPr>
          <p:spPr>
            <a:xfrm>
              <a:off x="3682440" y="3818160"/>
              <a:ext cx="3175200" cy="565200"/>
            </a:xfrm>
            <a:prstGeom prst="parallelogram">
              <a:avLst>
                <a:gd name="adj" fmla="val 43668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Picture 6" descr="vvx"/>
            <p:cNvPicPr/>
            <p:nvPr/>
          </p:nvPicPr>
          <p:blipFill>
            <a:blip r:embed="rId1"/>
            <a:stretch/>
          </p:blipFill>
          <p:spPr>
            <a:xfrm>
              <a:off x="3544920" y="3714840"/>
              <a:ext cx="1382400" cy="13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TextBox 6"/>
          <p:cNvSpPr/>
          <p:nvPr/>
        </p:nvSpPr>
        <p:spPr>
          <a:xfrm>
            <a:off x="2286000" y="5045040"/>
            <a:ext cx="5715000" cy="39888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般情况下，哪些账套的信息不能修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什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56800" y="353520"/>
            <a:ext cx="7899480" cy="560520"/>
          </a:xfrm>
          <a:prstGeom prst="rect">
            <a:avLst/>
          </a:prstGeom>
          <a:solidFill>
            <a:srgbClr val="005b8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t">
            <a:noAutofit/>
          </a:bodyPr>
          <a:p>
            <a:pPr marL="109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第三节账套管理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74760" y="1428840"/>
            <a:ext cx="83818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、账套的引入和输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引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输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3544920" y="3714840"/>
            <a:ext cx="3312720" cy="1309320"/>
            <a:chOff x="3544920" y="3714840"/>
            <a:chExt cx="3312720" cy="1309320"/>
          </a:xfrm>
        </p:grpSpPr>
        <p:sp>
          <p:nvSpPr>
            <p:cNvPr id="91" name="AutoShape 5"/>
            <p:cNvSpPr/>
            <p:nvPr/>
          </p:nvSpPr>
          <p:spPr>
            <a:xfrm>
              <a:off x="3682440" y="3818160"/>
              <a:ext cx="3175200" cy="565200"/>
            </a:xfrm>
            <a:prstGeom prst="parallelogram">
              <a:avLst>
                <a:gd name="adj" fmla="val 43668"/>
              </a:avLst>
            </a:prstGeom>
            <a:gradFill rotWithShape="0">
              <a:gsLst>
                <a:gs pos="0">
                  <a:srgbClr val="00ccff">
                    <a:alpha val="60000"/>
                  </a:srgbClr>
                </a:gs>
                <a:gs pos="100000">
                  <a:srgbClr val="005e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    </a:t>
              </a:r>
              <a:r>
                <a:rPr b="1" i="1" lang="zh-CN" sz="2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课堂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6" descr="vvx"/>
            <p:cNvPicPr/>
            <p:nvPr/>
          </p:nvPicPr>
          <p:blipFill>
            <a:blip r:embed="rId1"/>
            <a:stretch/>
          </p:blipFill>
          <p:spPr>
            <a:xfrm>
              <a:off x="3544920" y="3714840"/>
              <a:ext cx="1382400" cy="130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TextBox 6"/>
          <p:cNvSpPr/>
          <p:nvPr/>
        </p:nvSpPr>
        <p:spPr>
          <a:xfrm>
            <a:off x="3429000" y="5245200"/>
            <a:ext cx="4071960" cy="45972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什么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备份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11:49:56Z</dcterms:created>
  <dc:creator>Administrator</dc:creator>
  <dc:description/>
  <dc:language>en-US</dc:language>
  <cp:lastModifiedBy>lenovo</cp:lastModifiedBy>
  <cp:lastPrinted>1899-12-30T00:00:00Z</cp:lastPrinted>
  <dcterms:modified xsi:type="dcterms:W3CDTF">2018-02-27T09:00:50Z</dcterms:modified>
  <cp:revision>8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